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E6D86-8C24-44CF-83A2-4D6331F2F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8C2CB-A2A8-4FF2-8ABA-5E5D9DBBB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83876-5833-4B5C-949B-90D33A161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3464C-0E58-4837-A1F7-994ED9330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38DD6-94AE-43CE-90D4-C69CB4E40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03F59-2E4E-4B1E-8B73-AC0DFED2C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629B2-42B5-4DBC-AEC6-FD5119A09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D01B3-B982-4453-B2B7-198D28BF9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6A6DC-672B-498E-B725-DAAAC4B3C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632A0-B2B3-4C78-8C4F-81E20537D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978EB-868D-494D-BB27-8E343205E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B3DC3-9DD8-4EC5-825B-C3309D750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72D64-921C-411A-815B-49C80583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9F07F-DF4E-4C73-8744-58F327BE0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F3C20-86F9-409E-B633-0700C0C90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E6776-4D73-4E86-B728-B8631D2AC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809B5-D05F-4D81-856A-5573EF616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26502-912A-4D2C-AA3C-566521598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2470A-77DF-45E2-ADB2-A782E81B2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8C914-E84F-486C-80FC-E8BA47EDF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27F23-ECFA-415A-A3C1-C54AFD8C1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B2103-FE07-4A3C-B431-C24799733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A8096-E516-47BB-A9CA-4AE9EC9D1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7D4C1-BEAE-45FC-9DFF-B603142C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f0f0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c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38680-AF34-407E-983E-6BFBD82E60C2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f0f0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c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F4114-FAFE-43EF-B135-DBECBC58ECB8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ffffcc"/>
                </a:solidFill>
                <a:latin typeface="Tahoma"/>
              </a:rPr>
              <a:t>ROMEO &amp; JULIE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William Shakespea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200" spc="-1" strike="noStrike">
                <a:solidFill>
                  <a:srgbClr val="ffffcc"/>
                </a:solidFill>
                <a:latin typeface="Tahoma"/>
              </a:rPr>
              <a:t>ACT 2 SCENE 1 &amp; 2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What do Mercutio and Benvolio think of Romeo’s love? Do they realise his new love for Julie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Discuss Romeo’s comments of Juliet at her appearance. What images of lightness and darkness can be see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What type of questions does Juliet ask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Why does she regret saying so much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Describe their final lengthy goodby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200" spc="-1" strike="noStrike">
                <a:solidFill>
                  <a:srgbClr val="ffffcc"/>
                </a:solidFill>
                <a:latin typeface="Tahoma"/>
              </a:rPr>
              <a:t>ACT 2 SCENE 3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What is Friar Laurence doing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Why does he mention Rosalin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Why does he approve of this marriag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200" spc="-1" strike="noStrike">
                <a:solidFill>
                  <a:srgbClr val="ffffcc"/>
                </a:solidFill>
                <a:latin typeface="Tahoma"/>
              </a:rPr>
              <a:t>ACT 2 SCENE 4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Summarise Mercutio’s description of Tybal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In this scene what impressions do you get of Mercutio’s character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What does the nurse plan with Romeo? What glimpses do you get of her character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200" spc="-1" strike="noStrike">
                <a:solidFill>
                  <a:srgbClr val="ffffcc"/>
                </a:solidFill>
                <a:latin typeface="Tahoma"/>
              </a:rPr>
              <a:t>ACT 2 SCENE 5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Why doesn’t the nurse tell Juilet of the arrangements right awa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200" spc="-1" strike="noStrike">
                <a:solidFill>
                  <a:srgbClr val="ffffcc"/>
                </a:solidFill>
                <a:latin typeface="Tahoma"/>
              </a:rPr>
              <a:t>ACT 2 SCENE 6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These violent delights have violent ends’. What other notes of foreboding have there bee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200" spc="-1" strike="noStrike">
                <a:solidFill>
                  <a:srgbClr val="ffffcc"/>
                </a:solidFill>
                <a:latin typeface="Tahoma"/>
              </a:rPr>
              <a:t>ACT 3 SCENE 1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Why does Benvolio try to restrain Mercutio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Why does Tybalt seek to quarrel with Romeo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Whose name I tender as dearly as my own’. Explai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A plague on both your houses.’ Explain Mercutio’s word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200" spc="-1" strike="noStrike">
                <a:solidFill>
                  <a:srgbClr val="ffffcc"/>
                </a:solidFill>
                <a:latin typeface="Tahoma"/>
              </a:rPr>
              <a:t>ACT 3 SCENE 2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Why is the nurse’s news doubly distressing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Shall I speak ill of him that is my husband?’ Comment on Juliet’s speeches on pp 65-66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200" spc="-1" strike="noStrike">
                <a:solidFill>
                  <a:srgbClr val="ffffcc"/>
                </a:solidFill>
                <a:latin typeface="Tahoma"/>
              </a:rPr>
              <a:t>ACT 3 SCENE 3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How does Romeo react to the banishmen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What advice does the Friar hav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What news does the nurse bring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200" spc="-1" strike="noStrike">
                <a:solidFill>
                  <a:srgbClr val="ffffcc"/>
                </a:solidFill>
                <a:latin typeface="Tahoma"/>
              </a:rPr>
              <a:t>ACT 3 SCENE 4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What arrangements are made for the wedding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200" spc="-1" strike="noStrike">
                <a:solidFill>
                  <a:srgbClr val="ffffcc"/>
                </a:solidFill>
                <a:latin typeface="Tahoma"/>
              </a:rPr>
              <a:t>ACT 3 SCENE 5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Discuss the double talk by Juliet about Romeo to her moth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How does Juliet react to the suggestion of her wedding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What advice has the nurse? What does Juilet think of i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200" spc="-1" strike="noStrike">
                <a:solidFill>
                  <a:srgbClr val="ffffcc"/>
                </a:solidFill>
                <a:latin typeface="Tahoma"/>
              </a:rPr>
              <a:t>PRE-READING CLOZE EXERCIS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Once upon a _____ in the ancient city of ____ there lived two feuding _____ the Montagues and the _______ . Capulet’s daughter Juliet felll in ____ with Montague’s son ____. But in a street fight, Romeo’s friend Mercutio was ___ by Juliet’s cousin Tybalt. So in revenge Romeo had to kill ____. He was then banished from Verona. Before leaving, he married ___ in secret. Juliet’s ______ arranged for her to marry Count Pari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200" spc="-1" strike="noStrike">
                <a:solidFill>
                  <a:srgbClr val="ffffcc"/>
                </a:solidFill>
                <a:latin typeface="Tahoma"/>
              </a:rPr>
              <a:t>ACT 4 SCENE 1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What is Paris’s explanation for Capulet’s wanting to hasten the marriag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What threat does Juilet make and what does the Friar do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What is the Friar’s pla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200" spc="-1" strike="noStrike">
                <a:solidFill>
                  <a:srgbClr val="ffffcc"/>
                </a:solidFill>
                <a:latin typeface="Tahoma"/>
              </a:rPr>
              <a:t>ACT 4 SCENE 2 &amp; 3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Henceforward I am ever ruled by you.’ Explai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The wedding is advanced from Thursday to Wednesday. What is Lady Capulet’s main concer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What thoughts are on Juliet’s mind as she prepares to take the drug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200" spc="-1" strike="noStrike">
                <a:solidFill>
                  <a:srgbClr val="ffffcc"/>
                </a:solidFill>
                <a:latin typeface="Tahoma"/>
              </a:rPr>
              <a:t>ACT 4 SCENE 5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And with my child my joys are buried.’ Explai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200" spc="-1" strike="noStrike">
                <a:solidFill>
                  <a:srgbClr val="ffffcc"/>
                </a:solidFill>
                <a:latin typeface="Tahoma"/>
              </a:rPr>
              <a:t>ACT 5 SCENE 1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What are Romeo’s thoughts as the scene begin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Then I defy you stars’. Explai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What does Romeo say about the apothecar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200" spc="-1" strike="noStrike">
                <a:solidFill>
                  <a:srgbClr val="ffffcc"/>
                </a:solidFill>
                <a:latin typeface="Tahoma"/>
              </a:rPr>
              <a:t>ACT 5 SCENE 2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Why did Friar John not take the message to Romeo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200" spc="-1" strike="noStrike">
                <a:solidFill>
                  <a:srgbClr val="ffffcc"/>
                </a:solidFill>
                <a:latin typeface="Tahoma"/>
              </a:rPr>
              <a:t>ACT 5 SCENE 3</a:t>
            </a:r>
            <a:r>
              <a:rPr b="0" lang="en-NZ" sz="42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Does Paris really love Juilet? Eviden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Why does Romeo threaten Balthasar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And shake the yoke of inauspicious stars.’ Explai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We still have known thee for a holy man.’ What does this mea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Some shall be pardoned, some punished.’ Who for exampl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In order to avoid this, Juliet took a _____ which made her ______ ‘dead’. Amidst great _____ she was _____ in the family vaul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Romeo heard the _____ that Juliet was ‘dead’. He returned to _______, entered the vault where she lay and poisoned himself. Juliet ________ . Seeing _______ poisoned beside her, she stabbed herself. The Capulets and the Montagues ____ too late how foolish their _____ had been. They made pea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ffffcc"/>
                </a:solidFill>
                <a:latin typeface="Tahoma"/>
              </a:rPr>
              <a:t>PLOT QUESTIONS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ffffcc"/>
                </a:solidFill>
                <a:latin typeface="Tahoma"/>
              </a:rPr>
              <a:t>ACT ONE SCENE 1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What information does the prologue giv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What is the difference between Benvolio and Tybalt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What is Lady Capulet’s comment to her husband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What is your impression of the Prince’s influenc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How would you describe Romeo at this stag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200" spc="-1" strike="noStrike">
                <a:solidFill>
                  <a:srgbClr val="ffffcc"/>
                </a:solidFill>
                <a:latin typeface="Tahoma"/>
              </a:rPr>
              <a:t>ACT 1 SCENE 2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What is Capulet’s attitude to the marriage with Pari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What is Romeo’s attitude to Rosalin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200" spc="-1" strike="noStrike">
                <a:solidFill>
                  <a:srgbClr val="ffffcc"/>
                </a:solidFill>
                <a:latin typeface="Tahoma"/>
              </a:rPr>
              <a:t>ACT 1 SCENE 3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How old is Juliet and how do we know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I was your mother’ – explain Lady Capulet’s commen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What is Juliet’s reaction to the suggestion of marriag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200" spc="-1" strike="noStrike">
                <a:solidFill>
                  <a:srgbClr val="ffffcc"/>
                </a:solidFill>
                <a:latin typeface="Tahoma"/>
              </a:rPr>
              <a:t>ACT 1 SCENE 4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What are the ideas of love discussed at the beginning of the scen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What has Queen Mab to do with lov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200" spc="-1" strike="noStrike">
                <a:solidFill>
                  <a:srgbClr val="ffffcc"/>
                </a:solidFill>
                <a:latin typeface="Tahoma"/>
              </a:rPr>
              <a:t>ACT 1 SCENE 5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How is Capulet’s age brought ou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How does Romeo react to the sign of Julie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What does Tybalt do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What does Juliet think about her lov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6T01:51:24Z</dcterms:created>
  <dc:creator>Ministry of Education</dc:creator>
  <dc:description/>
  <dc:language>en-US</dc:language>
  <cp:lastModifiedBy>Mike   </cp:lastModifiedBy>
  <dcterms:modified xsi:type="dcterms:W3CDTF">2011-08-17T00:01:22Z</dcterms:modified>
  <cp:revision>8</cp:revision>
  <dc:subject/>
  <dc:title>ROMEO &amp; JULIET</dc:title>
</cp:coreProperties>
</file>