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8CEA-CF83-40CD-A05E-09A495075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283F-B79B-4845-A1A3-13E8BFA3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A461-E731-4235-BEF3-A85E5E44D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FF72-6679-4A50-A57B-D5C1CA88A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6881-8EAC-433A-BEE0-55DD3ADA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D4D3-5CB1-4D4F-AA04-3296A660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7390-8AFA-4098-936C-9190B9E4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8D55-57D1-4D3A-ACD8-4A0217F6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6A25-36DF-4E47-BD1B-BAA3D052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9383-DCA1-4E50-98AC-CF7ADCB9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C03F-0119-44A0-8C31-1653AD89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4272-3EA6-4581-8F9E-32798682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FB90-092B-41EC-A44B-BE3E5D2FF8EF}" type="slidenum">
              <a:rPr b="0" lang="en-N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928800" y="357120"/>
            <a:ext cx="7358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eroes and Villai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Oval 7"/>
          <p:cNvSpPr/>
          <p:nvPr/>
        </p:nvSpPr>
        <p:spPr>
          <a:xfrm>
            <a:off x="1785960" y="1857240"/>
            <a:ext cx="3857760" cy="3643560"/>
          </a:xfrm>
          <a:prstGeom prst="ellipse">
            <a:avLst/>
          </a:prstGeom>
          <a:solidFill>
            <a:srgbClr val="0070c0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Oval 5"/>
          <p:cNvSpPr/>
          <p:nvPr/>
        </p:nvSpPr>
        <p:spPr>
          <a:xfrm>
            <a:off x="3500280" y="1857240"/>
            <a:ext cx="3857760" cy="3643560"/>
          </a:xfrm>
          <a:prstGeom prst="ellipse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2257560" y="2500200"/>
            <a:ext cx="1520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Bradley Hand ITC"/>
              </a:rPr>
              <a:t>helpful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6053760" y="3500280"/>
            <a:ext cx="12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Bradley Hand ITC"/>
              </a:rPr>
              <a:t>wick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Table 3" descr=""/>
          <p:cNvPicPr/>
          <p:nvPr/>
        </p:nvPicPr>
        <p:blipFill>
          <a:blip r:embed="rId1"/>
          <a:stretch/>
        </p:blipFill>
        <p:spPr>
          <a:xfrm>
            <a:off x="353880" y="1189080"/>
            <a:ext cx="8508960" cy="516888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928800" y="357120"/>
            <a:ext cx="7358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ome Heroes and Villains Adjectiv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21:11:27Z</dcterms:created>
  <dc:creator>dnl</dc:creator>
  <dc:description/>
  <dc:language>en-US</dc:language>
  <cp:lastModifiedBy>Mike   </cp:lastModifiedBy>
  <dcterms:modified xsi:type="dcterms:W3CDTF">2011-08-17T05:17:29Z</dcterms:modified>
  <cp:revision>4</cp:revision>
  <dc:subject/>
  <dc:title>Slide 1</dc:title>
</cp:coreProperties>
</file>