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gif" ContentType="image/gif"/>
  <Override PartName="/ppt/media/image8.jpeg" ContentType="image/jpeg"/>
  <Override PartName="/ppt/media/image10.wmf" ContentType="image/x-wmf"/>
  <Override PartName="/ppt/media/image12.jpeg" ContentType="image/jpeg"/>
  <Override PartName="/ppt/media/image11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CD3-C191-43BA-85AA-EE09AD2A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3AE-6B84-41ED-919F-F7102538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225-F0BC-49D2-8479-52E160F6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D2C-42C3-4E73-A6B5-959194AB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06A-8A2F-4CE6-A3FB-3E1AE8FF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863-4C42-42F8-AEEB-E66D933A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081-172B-4461-90FB-8B5F0B37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AFA-3C54-4E7C-BDAD-01162D59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1DB-CD6E-43F5-BB7B-95A7D26F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8C9-8536-4E3F-AEC1-12CED5B0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387-9348-4F9D-B318-91C9E62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4E3-32FD-4B9C-9948-0A7F8F88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97BE-2F25-4880-92C3-78F8189312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"/>
              </a:rPr>
              <a:t>LETTERS FROM THE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"/>
              </a:rPr>
              <a:t>An epistolary – a story in the form of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st the themes (ideas about life) that John Marsden makes us think about in this novel.  Why did he write this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Mj02840950000[1]"/>
          <p:cNvPicPr/>
          <p:nvPr/>
        </p:nvPicPr>
        <p:blipFill>
          <a:blip r:embed="rId1"/>
          <a:stretch/>
        </p:blipFill>
        <p:spPr>
          <a:xfrm>
            <a:off x="4859280" y="3213000"/>
            <a:ext cx="1859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"/>
              </a:rPr>
              <a:t>Did you choose any of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urage</a:t>
            </a: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n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jud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pat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row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rime and Pu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riend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tra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y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fe and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4000" spc="-1" strike="noStrike">
                <a:solidFill>
                  <a:srgbClr val="000000"/>
                </a:solidFill>
                <a:latin typeface="comic"/>
              </a:rPr>
              <a:t>Hurt people hurt peopl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58920" y="1989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Baskerville Old Face"/>
              </a:rPr>
              <a:t>Write your own short paragraph explaining how this saying can be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Baskerville Old Face"/>
              </a:rPr>
              <a:t>Use an example from “Letters” to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7" descr="MPj03995110000[1]"/>
          <p:cNvPicPr/>
          <p:nvPr/>
        </p:nvPicPr>
        <p:blipFill>
          <a:blip r:embed="rId1"/>
          <a:stretch/>
        </p:blipFill>
        <p:spPr>
          <a:xfrm>
            <a:off x="3419640" y="3716280"/>
            <a:ext cx="22730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spects of a nov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– Where and when the story take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– Who are in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– How the story is told, and from whose point – of –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hem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– What ideas the writer wants the readers to think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0299125"/>
          <p:cNvPicPr/>
          <p:nvPr/>
        </p:nvPicPr>
        <p:blipFill>
          <a:blip r:embed="rId1"/>
          <a:stretch/>
        </p:blipFill>
        <p:spPr>
          <a:xfrm rot="748800">
            <a:off x="7235640" y="4941360"/>
            <a:ext cx="1035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pic sentence:  The events in the novel, “Letters From The Inside”, take place in modern-day Australia, in the characters’ homes, and in a prison…….(Explain more.)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Effect of this?)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You will have written an essay-style paragraph once you have don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2404870000[1]"/>
          <p:cNvPicPr/>
          <p:nvPr/>
        </p:nvPicPr>
        <p:blipFill>
          <a:blip r:embed="rId1"/>
          <a:stretch/>
        </p:blipFill>
        <p:spPr>
          <a:xfrm>
            <a:off x="7451640" y="3645000"/>
            <a:ext cx="14652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main characters in “Letters from the Inside” are Tracey and M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Explain who they are and what they are like at the start…and give an example or detail about each to prove what you are sa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nother paragraph in essay style will eme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MPj04117510000[1]"/>
          <p:cNvPicPr/>
          <p:nvPr/>
        </p:nvPicPr>
        <p:blipFill>
          <a:blip r:embed="rId1"/>
          <a:srcRect l="0" t="0" r="26886" b="0"/>
          <a:stretch/>
        </p:blipFill>
        <p:spPr>
          <a:xfrm rot="582600">
            <a:off x="6948000" y="4365720"/>
            <a:ext cx="15796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1628640"/>
            <a:ext cx="91440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ovel “Letters from the Inside” is structured as a series of letters.  This style is called an “epistolary”.  (Now explain how the letters are dated in chronological order and how they change in style as the story progresses – and suggest why that i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You have completed another literary paragrap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MPj04330990000[1]"/>
          <p:cNvPicPr/>
          <p:nvPr/>
        </p:nvPicPr>
        <p:blipFill>
          <a:blip r:embed="rId1"/>
          <a:stretch/>
        </p:blipFill>
        <p:spPr>
          <a:xfrm>
            <a:off x="5940360" y="4292640"/>
            <a:ext cx="2913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 important idea (theme) in Letters From The Inside” is 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Explain what this mean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Give an example of something in the novel that demonstrates this them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You have now completed 4 essay – style para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MCj0406124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24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Two gir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"/>
              </a:rPr>
              <a:t>Trac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A horse – two dogs and a 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Father owns transport 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Loves basket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Has a brother and sister – 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Lots of pocket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Boyfri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Likes 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Baskerville Old Face"/>
              </a:rPr>
              <a:t>Goes to Prescott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Pj04224750000[1]"/>
          <p:cNvPicPr/>
          <p:nvPr/>
        </p:nvPicPr>
        <p:blipFill>
          <a:blip r:embed="rId1"/>
          <a:srcRect l="-3142" t="-2012" r="27632" b="-3349"/>
          <a:stretch/>
        </p:blipFill>
        <p:spPr>
          <a:xfrm>
            <a:off x="4788000" y="1844640"/>
            <a:ext cx="2347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THE OTHER GI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"/>
              </a:rPr>
              <a:t>M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Baskerville Old Face"/>
              </a:rPr>
              <a:t>A brother, Steve, (17) and a sister, at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Baskerville Old Face"/>
              </a:rPr>
              <a:t>A nameless d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Baskerville Old Face"/>
              </a:rPr>
              <a:t>Has $101.60 in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Baskerville Old Face"/>
              </a:rPr>
              <a:t>Lives in Acacia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Baskerville Old Face"/>
              </a:rPr>
              <a:t>Has close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askerville Old Face"/>
              </a:rPr>
              <a:t>Conf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Pj04026210000[1]"/>
          <p:cNvPicPr/>
          <p:nvPr/>
        </p:nvPicPr>
        <p:blipFill>
          <a:blip r:embed="rId1"/>
          <a:stretch/>
        </p:blipFill>
        <p:spPr>
          <a:xfrm>
            <a:off x="5792760" y="2852640"/>
            <a:ext cx="26668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Mandy’s sec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eve, her 17-year-old brother, is “creep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 watches all these violent movies,dresses in Army greens..has got all kinds of weapon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’s beaten me up sometimes…And it’s always when no-one’s around.  He’s smart like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Pj03154700000[1]"/>
          <p:cNvPicPr/>
          <p:nvPr/>
        </p:nvPicPr>
        <p:blipFill>
          <a:blip r:embed="rId1"/>
          <a:stretch/>
        </p:blipFill>
        <p:spPr>
          <a:xfrm>
            <a:off x="7093080" y="333360"/>
            <a:ext cx="165564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Tracey’s sec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heard of Garrett?...It’s a maximum security place, where they put you if you’re ba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Pj02022020000[1]"/>
          <p:cNvPicPr/>
          <p:nvPr/>
        </p:nvPicPr>
        <p:blipFill>
          <a:blip r:embed="rId1"/>
          <a:stretch/>
        </p:blipFill>
        <p:spPr>
          <a:xfrm>
            <a:off x="3708360" y="2924280"/>
            <a:ext cx="2639880" cy="351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9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9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9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9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Climax of the no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484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Baskerville Old Face"/>
              </a:rPr>
              <a:t>What will Mandy think once she knows about Garret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484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Baskerville Old Face"/>
              </a:rPr>
              <a:t>Tracey:  “I can’t be honest…if I don’t pretend you’ll realise how off I am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bf1"/>
                </a:solidFill>
                <a:latin typeface="comic"/>
              </a:rPr>
              <a:t>tension builds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rac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“…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’m back in the Med Unit, not for anything in particular.  They just want to keep an eye on me or something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M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last week Steve’s been out of control…He slaps me, knees me, kicks me…he scares m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The moment of 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racey:  “I know my father was what they call violent….and he’d hit Mum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that’s when Nanna told me that my Mum had died and my Dad had gone away…I started to go a bit funny, I think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Pj01788450000[1]"/>
          <p:cNvPicPr/>
          <p:nvPr/>
        </p:nvPicPr>
        <p:blipFill>
          <a:blip r:embed="rId1"/>
          <a:stretch/>
        </p:blipFill>
        <p:spPr>
          <a:xfrm>
            <a:off x="2987640" y="4508640"/>
            <a:ext cx="2577960" cy="171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796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796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796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The 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acey’s father was violent and he murdered someone close to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There is an eerie link in the lives of the two gir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dy’s brother is violent, and the author lets us assume that he murders someone close to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MMj02834530000[1]"/>
          <p:cNvPicPr/>
          <p:nvPr/>
        </p:nvPicPr>
        <p:blipFill>
          <a:blip r:embed="rId1"/>
          <a:stretch/>
        </p:blipFill>
        <p:spPr>
          <a:xfrm>
            <a:off x="2916360" y="4581360"/>
            <a:ext cx="4032000" cy="142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02:00:52Z</dcterms:created>
  <dc:creator>ssh</dc:creator>
  <dc:description/>
  <dc:language>en-US</dc:language>
  <cp:lastModifiedBy>Mike   </cp:lastModifiedBy>
  <dcterms:modified xsi:type="dcterms:W3CDTF">2012-05-18T01:34:33Z</dcterms:modified>
  <cp:revision>16</cp:revision>
  <dc:subject/>
  <dc:title>LETTERS FROM THE INSIDE</dc:title>
</cp:coreProperties>
</file>