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BB9-3E0E-467D-8FBE-E319A0C64D2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0B8-BF5C-4C37-B2EB-E5965061EFF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DF4-B106-455A-839D-F566E166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8FB-C823-4D59-B5AF-E47B751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8A9-94B3-47F6-98B8-9E80DEAC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B5D-CF23-4F3C-BA38-FA1209CA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509-C4DD-4D62-83E5-88792BC2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E99-6D65-420E-8A32-ED7B44E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154-37D9-42A3-B837-DBD3487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A92-3CAC-4720-A784-F5021202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BFE-63B7-4739-8D50-7E28042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EE0-B3C8-44CE-A1FE-33051C5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D63-DA4E-4199-9E1A-47B70AA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7BB-1EEB-4A67-B93C-6A5198B2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2096-F7FE-4DD6-9DAD-57368EE56F5E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 Black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ff0000"/>
                </a:solidFill>
                <a:latin typeface="Arial Black"/>
              </a:rPr>
              <a:t>Witi Ihima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 txBox="1"/>
          <p:nvPr/>
        </p:nvSpPr>
        <p:spPr>
          <a:xfrm>
            <a:off x="539640" y="1484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Whale Rider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5. focus is on one or more main characters and their relationship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0000"/>
                </a:solidFill>
                <a:latin typeface="Rockwell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In the novel ……………….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6. a detailed physical and cultural and historical setting is often establishe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ff0000"/>
                </a:solidFill>
                <a:latin typeface="Rockwell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In the novel ……………….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7. The main ideas are often universal themes every reader can identify wit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In the novel ……………….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 Rounded MT Bold"/>
              </a:rPr>
              <a:t>MAIN IDEAS/ THE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1258920" y="1268280"/>
            <a:ext cx="6840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Whale Rider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6" name="Picture 9" descr="th-whale_rider_8"/>
          <p:cNvPicPr/>
          <p:nvPr/>
        </p:nvPicPr>
        <p:blipFill>
          <a:blip r:embed="rId1"/>
          <a:stretch/>
        </p:blipFill>
        <p:spPr>
          <a:xfrm>
            <a:off x="1979640" y="2781360"/>
            <a:ext cx="5111640" cy="328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What ideas in the novel do you see reflected in each of these im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th-whale_rider_5"/>
          <p:cNvPicPr/>
          <p:nvPr/>
        </p:nvPicPr>
        <p:blipFill>
          <a:blip r:embed="rId1"/>
          <a:stretch/>
        </p:blipFill>
        <p:spPr>
          <a:xfrm>
            <a:off x="4572000" y="2708280"/>
            <a:ext cx="4356000" cy="279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th-whale_rider_4"/>
          <p:cNvPicPr/>
          <p:nvPr/>
        </p:nvPicPr>
        <p:blipFill>
          <a:blip r:embed="rId2"/>
          <a:stretch/>
        </p:blipFill>
        <p:spPr>
          <a:xfrm>
            <a:off x="179280" y="2708280"/>
            <a:ext cx="4392720" cy="282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cover dir="l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Black"/>
              </a:rPr>
              <a:t>TH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ff0000"/>
                </a:solidFill>
                <a:latin typeface="Arial Black"/>
              </a:rPr>
              <a:t>Titles are often a key to a main theme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Suggest 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 Black"/>
              </a:rPr>
              <a:t>two</a:t>
            </a: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 ways we can interpret th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1835280" y="4149720"/>
            <a:ext cx="5616360" cy="115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Whale Rider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Line 7"/>
          <p:cNvSpPr/>
          <p:nvPr/>
        </p:nvSpPr>
        <p:spPr>
          <a:xfrm flipH="1">
            <a:off x="2411280" y="4653000"/>
            <a:ext cx="136872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5148360" y="4724280"/>
            <a:ext cx="115236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3600" spc="-1" strike="noStrike">
                <a:solidFill>
                  <a:srgbClr val="ff0000"/>
                </a:solidFill>
                <a:latin typeface="Arial Black"/>
              </a:rPr>
              <a:t>Use any of these words to state what you think are two key ideas in the st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Cul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Na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Faith in yoursel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Tradi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 Black"/>
              </a:rPr>
              <a:t>What are some key ideas or themes presented in thi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Give evidence: an EVENT  </a:t>
            </a:r>
            <a:r>
              <a:rPr b="1" lang="en-NZ" sz="3600" spc="-1" strike="noStrike" u="sng">
                <a:solidFill>
                  <a:srgbClr val="ff0000"/>
                </a:solidFill>
                <a:uFillTx/>
                <a:latin typeface="Arial"/>
              </a:rPr>
              <a:t>and</a:t>
            </a: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 a QUOTATION from the novel to support each of these 3 the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403848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 Black"/>
              </a:rPr>
              <a:t>THEM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Your culture is an important part of your sense of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2565000"/>
            <a:ext cx="403848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Black"/>
              </a:rPr>
              <a:t>EVIDENCE -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 Rounded MT Bold"/>
              </a:rPr>
              <a:t>Going to the wananga classes to learn tribal lore gives Rawiri and the boys a sense of mana and pride in their ance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0000"/>
                </a:solidFill>
                <a:latin typeface="Arial Rounded MT Bold"/>
              </a:rPr>
              <a:t>   </a:t>
            </a:r>
            <a:r>
              <a:rPr b="1" i="1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3333cc"/>
                </a:solidFill>
                <a:latin typeface="Arial Rounded MT Bold"/>
              </a:rPr>
              <a:t>All of us felt the need to understand more about our roots.</a:t>
            </a:r>
            <a:r>
              <a:rPr b="1" i="1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r>
              <a:rPr b="1" lang="en-NZ" sz="2400" spc="-1" strike="noStrike">
                <a:solidFill>
                  <a:srgbClr val="ff0000"/>
                </a:solidFill>
                <a:latin typeface="Arial Rounded MT Bold"/>
              </a:rPr>
              <a:t>  p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man2_tif"/>
          <p:cNvPicPr/>
          <p:nvPr/>
        </p:nvPicPr>
        <p:blipFill>
          <a:blip r:embed="rId1"/>
          <a:stretch/>
        </p:blipFill>
        <p:spPr>
          <a:xfrm>
            <a:off x="3995640" y="3429000"/>
            <a:ext cx="1009800" cy="259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 spd="slow">
    <p:cover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THE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 Black"/>
              </a:rPr>
              <a:t>Growing up is not easy and requires a lot of personal cou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pai"/>
          <p:cNvPicPr/>
          <p:nvPr/>
        </p:nvPicPr>
        <p:blipFill>
          <a:blip r:embed="rId1"/>
          <a:stretch/>
        </p:blipFill>
        <p:spPr>
          <a:xfrm>
            <a:off x="1258920" y="2852640"/>
            <a:ext cx="727704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Give evidence: an EVENT  </a:t>
            </a:r>
            <a:r>
              <a:rPr b="1" lang="en-NZ" sz="3600" spc="-1" strike="noStrike" u="sng">
                <a:solidFill>
                  <a:srgbClr val="ff0000"/>
                </a:solidFill>
                <a:uFillTx/>
                <a:latin typeface="Arial"/>
              </a:rPr>
              <a:t>and</a:t>
            </a: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 a QUOTATION from the novel to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303516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 Black"/>
              </a:rPr>
              <a:t>THEM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Growing up is not easy and requires a lot of personal cou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51280" y="2565000"/>
            <a:ext cx="483552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Black"/>
              </a:rPr>
              <a:t>EVIDENCE -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0000"/>
                </a:solidFill>
                <a:latin typeface="Arial Rounded MT Bol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Black"/>
              </a:rPr>
              <a:t>The Wri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1986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the New Zealand writer,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Witi Ihimaera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, was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living in New York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 He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saw a stranded whale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up the Hudson River. He was already feeling homesick and it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made him recall the legend of Kahutia-te-Rangi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 Ihimaera </a:t>
            </a: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grew up near Whangara, where the descendants of Kahutia are said to live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 He wrote the novel in three wee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>
                <a:solidFill>
                  <a:srgbClr val="000000"/>
                </a:solidFill>
                <a:latin typeface="Arial Black"/>
              </a:rPr>
              <a:t>THEM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>
                <a:solidFill>
                  <a:srgbClr val="000000"/>
                </a:solidFill>
                <a:latin typeface="Arial Black"/>
              </a:rPr>
              <a:t>We need to respect nature and the environment we live in.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whletl"/>
          <p:cNvPicPr/>
          <p:nvPr/>
        </p:nvPicPr>
        <p:blipFill>
          <a:blip r:embed="rId1"/>
          <a:stretch/>
        </p:blipFill>
        <p:spPr>
          <a:xfrm>
            <a:off x="4648320" y="1989000"/>
            <a:ext cx="4038480" cy="3202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 spd="slow">
    <p:cover dir="l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Give evidence: an EVENT  </a:t>
            </a:r>
            <a:r>
              <a:rPr b="1" lang="en-NZ" sz="3600" spc="-1" strike="noStrike" u="sng">
                <a:solidFill>
                  <a:srgbClr val="ff0000"/>
                </a:solidFill>
                <a:uFillTx/>
                <a:latin typeface="Arial"/>
              </a:rPr>
              <a:t>and</a:t>
            </a:r>
            <a:r>
              <a:rPr b="1" lang="en-NZ" sz="3600" spc="-1" strike="noStrike">
                <a:solidFill>
                  <a:srgbClr val="ff0000"/>
                </a:solidFill>
                <a:latin typeface="Arial"/>
              </a:rPr>
              <a:t> a QUOTATION from the novel to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338436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 Black"/>
              </a:rPr>
              <a:t>THEME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We ne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respect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an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environment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 Black"/>
              </a:rPr>
              <a:t>live in.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51280" y="2565000"/>
            <a:ext cx="4835520" cy="40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Black"/>
              </a:rPr>
              <a:t>EVIDENCE -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0000"/>
                </a:solidFill>
                <a:latin typeface="Arial Rounded MT Bol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Black"/>
              </a:rPr>
              <a:t>Background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32000" y="1341360"/>
            <a:ext cx="5832720" cy="5516640"/>
          </a:xfrm>
          <a:prstGeom prst="rect">
            <a:avLst/>
          </a:prstGeom>
          <a:solidFill>
            <a:srgbClr val="ffff99">
              <a:alpha val="58000"/>
            </a:srgbClr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3333cc"/>
                </a:solidFill>
                <a:uFillTx/>
                <a:latin typeface="Arial"/>
              </a:rPr>
              <a:t>The Legend of Kahutia-te-Ran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Kahutia-te-Rangi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travelled from Hawaiiki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 but his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canoe capsized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whale saved him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 and he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rode its back to shore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To commemorate this voyage he was given the name </a:t>
            </a:r>
            <a:r>
              <a:rPr b="1" i="1" lang="ja-JP" sz="32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Paikea</a:t>
            </a:r>
            <a:r>
              <a:rPr b="1" i="1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 . His </a:t>
            </a:r>
            <a:r>
              <a:rPr b="1" i="1" lang="en-NZ" sz="3200" spc="-1" strike="noStrike">
                <a:solidFill>
                  <a:srgbClr val="ff0000"/>
                </a:solidFill>
                <a:latin typeface="Arial"/>
              </a:rPr>
              <a:t>descendants live at Whangara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, on the East Coast of the North Island.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whalerider"/>
          <p:cNvPicPr/>
          <p:nvPr/>
        </p:nvPicPr>
        <p:blipFill>
          <a:blip r:embed="rId1"/>
          <a:stretch/>
        </p:blipFill>
        <p:spPr>
          <a:xfrm>
            <a:off x="250920" y="1341360"/>
            <a:ext cx="2808360" cy="2879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etailcover" descr="The Whale Rider"/>
          <p:cNvPicPr/>
          <p:nvPr/>
        </p:nvPicPr>
        <p:blipFill>
          <a:blip r:embed="rId1"/>
          <a:stretch/>
        </p:blipFill>
        <p:spPr>
          <a:xfrm>
            <a:off x="3132000" y="1916280"/>
            <a:ext cx="2938680" cy="4485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WHAT IS A NO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 Black"/>
              </a:rPr>
              <a:t>Select the </a:t>
            </a:r>
            <a:r>
              <a:rPr b="1" lang="en-NZ" sz="2000" spc="-1" strike="noStrike">
                <a:solidFill>
                  <a:srgbClr val="ff0000"/>
                </a:solidFill>
                <a:latin typeface="Arial Black"/>
              </a:rPr>
              <a:t>7 typical features</a:t>
            </a:r>
            <a:r>
              <a:rPr b="1" lang="en-NZ" sz="2000" spc="-1" strike="noStrike">
                <a:solidFill>
                  <a:srgbClr val="000000"/>
                </a:solidFill>
                <a:latin typeface="Arial Black"/>
              </a:rPr>
              <a:t> of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lack"/>
              </a:rPr>
              <a:t>novel genre</a:t>
            </a:r>
            <a:r>
              <a:rPr b="1" lang="en-NZ" sz="2000" spc="-1" strike="noStrike">
                <a:solidFill>
                  <a:srgbClr val="000000"/>
                </a:solidFill>
                <a:latin typeface="Arial Black"/>
              </a:rPr>
              <a:t> from this list and write them d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 Black"/>
              </a:rPr>
              <a:t>LEAVE TWO LINES UNDE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text is organised into sections called chap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a single, short, compressed incident is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single or multiple narrators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lines are set out in stan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text is a combination of narrative, description, and di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factual and informativ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may use first and/or third person point of view to 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focus is on one or more main characters and thei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need not use punctuation as many lines are in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a detailed physical and cultural and historical setting is often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speakers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 names are listed down the margin next to what they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 Rounded MT Bold"/>
              </a:rPr>
              <a:t>the main ideas are often universal themes every reader can identif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DOES </a:t>
            </a:r>
            <a:r>
              <a:rPr b="0" lang="en-NZ" sz="4000" spc="-1" strike="noStrike" u="sng">
                <a:solidFill>
                  <a:srgbClr val="000000"/>
                </a:solidFill>
                <a:uFillTx/>
                <a:latin typeface="Arial Black"/>
              </a:rPr>
              <a:t>THE WHALE RIDER</a:t>
            </a: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 FIT THE GEN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Indicate how this novel shows each of your 7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Rockwell Condensed"/>
              </a:rPr>
              <a:t>For example</a:t>
            </a:r>
            <a:r>
              <a:rPr b="1" lang="en-NZ" sz="2800" spc="-1" strike="noStrike">
                <a:solidFill>
                  <a:srgbClr val="000000"/>
                </a:solidFill>
                <a:latin typeface="Rockwell Condense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0000"/>
                </a:solidFill>
                <a:latin typeface="Rockwell Condensed"/>
              </a:rPr>
              <a:t>1. single or multiple narrators may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2800" spc="-1" strike="noStrike" u="sng">
                <a:solidFill>
                  <a:srgbClr val="3333cc"/>
                </a:solidFill>
                <a:uFillTx/>
                <a:latin typeface="Rockwell Condensed"/>
              </a:rPr>
              <a:t>The Whale Rider</a:t>
            </a:r>
            <a:r>
              <a:rPr b="1" i="1" lang="en-NZ" sz="2800" spc="-1" strike="noStrike">
                <a:solidFill>
                  <a:srgbClr val="3333cc"/>
                </a:solidFill>
                <a:latin typeface="Rockwell Condensed"/>
              </a:rPr>
              <a:t> uses two different narrators or </a:t>
            </a:r>
            <a:r>
              <a:rPr b="1" i="1" lang="ja-JP" sz="2800" spc="-1" strike="noStrike">
                <a:solidFill>
                  <a:srgbClr val="3333cc"/>
                </a:solidFill>
                <a:latin typeface="Arial"/>
              </a:rPr>
              <a:t>‘</a:t>
            </a:r>
            <a:r>
              <a:rPr b="1" i="1" lang="en-NZ" sz="2800" spc="-1" strike="noStrike">
                <a:solidFill>
                  <a:srgbClr val="3333cc"/>
                </a:solidFill>
                <a:latin typeface="Rockwell Condensed"/>
              </a:rPr>
              <a:t>voices</a:t>
            </a:r>
            <a:r>
              <a:rPr b="1" i="1" lang="ja-JP" sz="28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3333cc"/>
                </a:solidFill>
                <a:latin typeface="Rockwell Condensed"/>
              </a:rPr>
              <a:t> to tell the story. One narrator tells the legend; and the other is Rawiri, Kahu</a:t>
            </a:r>
            <a:r>
              <a:rPr b="1" i="1" lang="ja-JP" sz="28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3333cc"/>
                </a:solidFill>
                <a:latin typeface="Rockwell Condensed"/>
              </a:rPr>
              <a:t>s un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2. text is organised into sections called chap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The novel …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3. text is a combination of narrative, description, and dialogu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Examples are …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500" spc="-1" strike="noStrike">
                <a:solidFill>
                  <a:srgbClr val="ff0000"/>
                </a:solidFill>
                <a:latin typeface="Rockwell Condensed"/>
              </a:rPr>
              <a:t>4. text may use first and/or third person point of view to tell the st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3333cc"/>
                </a:solidFill>
                <a:latin typeface="Rockwell Condensed"/>
              </a:rPr>
              <a:t>In the novel the points of view are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4643280" y="2133720"/>
            <a:ext cx="0" cy="6476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9:29:18Z</dcterms:created>
  <dc:creator>Administrator</dc:creator>
  <dc:description/>
  <dc:language>en-US</dc:language>
  <cp:lastModifiedBy>Mike   </cp:lastModifiedBy>
  <dcterms:modified xsi:type="dcterms:W3CDTF">2013-06-17T20:52:22Z</dcterms:modified>
  <cp:revision>315</cp:revision>
  <dc:subject/>
  <dc:title>Slide 1</dc:title>
</cp:coreProperties>
</file>