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784-9AC2-4378-ABEE-2566F0EF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008-4DDD-4C4E-8DF7-471F940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17C-84CC-47E2-BACF-E0A0E1F5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950-ADBD-4FA4-B28C-454DC37B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327-F9A5-47B1-94B2-0D234EC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1CD-932F-4EA9-8065-50FB4040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C0D-F316-48F5-9CB7-59712B6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284-FF7C-4774-896E-E605497D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965-79FE-41B9-B9C2-013E808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8E6-0221-468F-AF6D-4D26E91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8C6-D3BD-4E50-859D-2CF36D4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E88-4476-478D-919D-96D0C83A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0BB2-52F0-49C5-B812-6539ECC61FD0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 txBox="1"/>
          <p:nvPr/>
        </p:nvSpPr>
        <p:spPr>
          <a:xfrm>
            <a:off x="539640" y="1484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Whale Rid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WHAT DO WE MEAN BY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STRUCTU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NZ" sz="3200" spc="-1" strike="noStrike">
                <a:solidFill>
                  <a:srgbClr val="000000"/>
                </a:solidFill>
                <a:latin typeface="Arial Black"/>
              </a:rPr>
              <a:t> IN A NO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353440" cy="4969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NZ" sz="2000" spc="-1" strike="noStrike">
                <a:solidFill>
                  <a:srgbClr val="ff5050"/>
                </a:solidFill>
                <a:latin typeface="Arial Black"/>
              </a:rPr>
              <a:t>Structure means the order in which the ideas are presented, and the techniques used to presen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Techniques used in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 Black"/>
              </a:rPr>
              <a:t>The Whale Rider</a:t>
            </a:r>
            <a:r>
              <a:rPr b="0" lang="en-NZ" sz="2000" spc="-1" strike="noStrike">
                <a:solidFill>
                  <a:srgbClr val="000000"/>
                </a:solidFill>
                <a:latin typeface="Arial Black"/>
              </a:rPr>
              <a:t>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Chap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Pro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Alternate nar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Ita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Grouping of chapters into the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four seasons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A glossary at the end of Maori words used in the no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Rockwell Condensed"/>
              </a:rPr>
              <a:t>The interweaving of Maori and English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Black"/>
              </a:rPr>
              <a:t>HOW DOES EACH STRUCTURE TECHNIQUE WORK TO PRESENT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Chapters –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21 – why so many short chapter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Prologue –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to tell the legend. The epilogue is different– it</a:t>
            </a:r>
            <a:r>
              <a:rPr b="1" i="1" lang="ja-JP" sz="3100" spc="-1" strike="noStrike">
                <a:solidFill>
                  <a:srgbClr val="ff5050"/>
                </a:solidFill>
                <a:latin typeface="Arial"/>
              </a:rPr>
              <a:t>’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s the last 3 chapters. Wh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Alternate narrators –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the legend teller and Rawiri – what does this do to the story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Italics –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to give the whales</a:t>
            </a:r>
            <a:r>
              <a:rPr b="1" i="1" lang="ja-JP" sz="3100" spc="-1" strike="noStrike">
                <a:solidFill>
                  <a:srgbClr val="ff5050"/>
                </a:solidFill>
                <a:latin typeface="Arial"/>
              </a:rPr>
              <a:t>’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 story as they journey towards Whangara – what does this add to the way the novel is tol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Black"/>
              </a:rPr>
              <a:t>HOW DOES EACH STRUCTURE TECHNIQUE WORK TO PRESENT THE MAIN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Grouping of chapters into the </a:t>
            </a:r>
            <a:r>
              <a:rPr b="1" i="1" lang="ja-JP" sz="3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four seasons</a:t>
            </a:r>
            <a:r>
              <a:rPr b="1" i="1" lang="ja-JP" sz="3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,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to mark Kahutia</a:t>
            </a:r>
            <a:r>
              <a:rPr b="1" i="1" lang="ja-JP" sz="3100" spc="-1" strike="noStrike">
                <a:solidFill>
                  <a:srgbClr val="ff5050"/>
                </a:solidFill>
                <a:latin typeface="Arial"/>
              </a:rPr>
              <a:t>’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s growth into her rightful </a:t>
            </a:r>
            <a:r>
              <a:rPr b="1" i="1" lang="ja-JP" sz="3100" spc="-1" strike="noStrike">
                <a:solidFill>
                  <a:srgbClr val="ff5050"/>
                </a:solidFill>
                <a:latin typeface="Arial"/>
              </a:rPr>
              <a:t>‘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inheritance</a:t>
            </a:r>
            <a:r>
              <a:rPr b="1" i="1" lang="ja-JP" sz="3100" spc="-1" strike="noStrike">
                <a:solidFill>
                  <a:srgbClr val="ff5050"/>
                </a:solidFill>
                <a:latin typeface="Arial"/>
              </a:rPr>
              <a:t>’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. Why else is this grouping appropriat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A glossary at the end of Maori words used in the novel.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What important theme does this reinforc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Rockwell Condense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100" spc="-1" strike="noStrike">
                <a:solidFill>
                  <a:srgbClr val="000000"/>
                </a:solidFill>
                <a:latin typeface="Rockwell Condensed"/>
              </a:rPr>
              <a:t>The interweaving of Maori and English languages </a:t>
            </a:r>
            <a:r>
              <a:rPr b="1" i="1" lang="en-NZ" sz="3100" spc="-1" strike="noStrike">
                <a:solidFill>
                  <a:srgbClr val="ff5050"/>
                </a:solidFill>
                <a:latin typeface="Rockwell Condensed"/>
              </a:rPr>
              <a:t>in both the legend and Rawiri sections. Why does Witi Ihimaera do thi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08:49:03Z</dcterms:created>
  <dc:creator>Administrator</dc:creator>
  <dc:description/>
  <dc:language>en-US</dc:language>
  <cp:lastModifiedBy>Mike   </cp:lastModifiedBy>
  <dcterms:modified xsi:type="dcterms:W3CDTF">2013-06-17T20:52:00Z</dcterms:modified>
  <cp:revision>52</cp:revision>
  <dc:subject/>
  <dc:title>Slide 1</dc:title>
</cp:coreProperties>
</file>